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.png" ContentType="image/png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500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08879D-64ED-4DA6-88BF-196E7743A45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699137-A9DB-4B72-8C06-3DE91D281743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884160" y="7588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14720" cy="44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6DAA0B-98BF-4BC2-9F04-140879FBF2A6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104-44C1-47E4-8879-3DBFE7CB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1B0-CDF4-4ED6-A3A3-315296E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23C-50DF-4D7D-BACB-9A2E8701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2F3-7B3B-4CEF-B051-3B64D5F9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C5D-973A-44BD-8B25-15CD7EB8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348-CF05-48B5-A7A0-2C4C82F8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D72-8B7D-4305-978E-6BE4729A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174-70E7-44D8-9027-66DA10EF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E65-A402-46C1-9BF5-BE2F96F3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DC4-2196-4EA5-9D39-0A459084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23F-E9B6-4FF3-B319-1A59B8C1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768-9237-4373-9B8C-D0B22844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A2FC-2F13-4777-A585-B26B8CC175FA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1858680"/>
            <a:ext cx="6842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Cobertura de los sistemas de protección social: definiciones, fuentes de datos,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03280" y="5587920"/>
            <a:ext cx="37450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Fabio Durán Valver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ficina Internacional del Trabajo</a:t>
            </a:r>
            <a:br>
              <a:rPr sz="1600"/>
            </a:b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SRA,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081320"/>
            <a:ext cx="727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urso Estrategias para la extensión de la protec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an José, Costa Rica, julio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924360" y="936720"/>
            <a:ext cx="1079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Medición de la cobertura de pen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9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radicionalmente dos tipos de medi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porción de la fuerza laboral que cotiza: alcance de cobertura con vinculación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porción de adultos mayores jubilados /pensionad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876920"/>
            <a:ext cx="312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5915160"/>
            <a:ext cx="40384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xtensión de la cobertu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A5C-14F8-4D37-AC6E-D03D0AA570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Cobertura en pensiones según modelo de financia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Beneficio defi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ntribución definida (cuentas individuales, ahorro individu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020-9DCD-4F44-A5EA-23EA0E5D3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Medición de cobertura de pensiones en adultos may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70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fleja el desempeño del mercado laboral y la protección que otorgaban los sistemas contributivos en funcionamiento décadas at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fleja la protección que brinda el componente no contributiv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40D-A2AC-409A-B89A-6ED82BF58D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Medición de cobertura en sistemas contribu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roporción de cotizantes es un indicador parcial e incompleto para medir cobertura de riesgos de vejez, invalidez y sobreviv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un cotizante (durante un período) puede no necesariamente tener derecho a 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un no cotizante puede estar cubierto (con derecho consolid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181-F8AE-43C8-80CA-89F61F5980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Medición de cobertura en sistemas contributivos de capitalización individ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n regímenes de capitalización individual debería contemplarse la diferencia entre el saldo efectivo y el saldo teórico para un determinado nivel de pensión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gímenes cuentan con garantías estatales (pensiones mínimas) y/o están insertos en esquemas mixtos, consecuentemente hay “no linealidades” en la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A83-086B-4A10-A410-194459DF60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En resumen: la medición de cobertu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be medir no sól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Exten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antidad de trabajadores/personas cubi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tizante/beneficiario, cónyuge, hijos men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ino tambié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ivel de prestaciones actuales/pot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85D7-F15B-44BD-8458-59CD65C1E0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rincipales 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Registros administrativo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hog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ingresos y ga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Necesidad de combinar datos de diversas fuentes para la construcción de indicadores.  Precaución al combinar fuente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CE5-31F7-4D61-8828-07865841B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Registros administrativos: lo mí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Ubicación geográfica (de la empresa / de la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 (número de emple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410-021E-446E-AEC0-1989403920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763640"/>
            <a:ext cx="2592360" cy="1160640"/>
          </a:xfrm>
          <a:prstGeom prst="rect">
            <a:avLst/>
          </a:prstGeom>
          <a:solidFill>
            <a:srgbClr val="9fc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Uruguay: ¿En este trabajo tiene derecho a jubil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068640"/>
            <a:ext cx="2606760" cy="1584360"/>
          </a:xfrm>
          <a:prstGeom prst="rect">
            <a:avLst/>
          </a:prstGeom>
          <a:solidFill>
            <a:srgbClr val="ff9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erú: ¿Ud. actualmente está afiliado a : ESSALUD ( antes IPS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s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24280"/>
            <a:ext cx="2592360" cy="190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anamá:  Categoría de aseguramien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tizante y jubilado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No cotizante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1773360"/>
            <a:ext cx="2606760" cy="26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cuador: Está afiliado o cubierto p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Campes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ing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Medicina Preven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SSFA, ISS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eguro de salud pr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25960" y="1773360"/>
            <a:ext cx="2967120" cy="4813200"/>
          </a:xfrm>
          <a:prstGeom prst="rect">
            <a:avLst/>
          </a:prstGeom>
          <a:solidFill>
            <a:srgbClr val="6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500" spc="-1" strike="noStrike">
                <a:solidFill>
                  <a:srgbClr val="000000"/>
                </a:solidFill>
                <a:latin typeface="Times New Roman"/>
              </a:rPr>
              <a:t>Costa Rica: ¿qué tipo de seguro social tien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   Asalari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2   Mediante Conven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3   Cuenta Prop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4   Por el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5   Familiar de Asegurado Direc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6   Régimen No Contributivo Monto Bás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7   Pensionado Régimen IVM de la CC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8   Familiar de Pension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   Otras Form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0  No Asegur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1  Régimen No Contributivo de Gracia o Guer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2  Régimen Magisterio, Poder Judicial, Hacien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9  Ignorad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4581360"/>
            <a:ext cx="2519280" cy="201636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Argentina: ¿para este trabajo tiene descuento jubilator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8B3-8EEF-4960-B96D-E3D6A96A73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773360"/>
            <a:ext cx="2952720" cy="302400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hile: ¿A qué sistema previsional de salud pertenece us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0 S. público Grupo A (indige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S. público Gru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 S. público Gru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 S. público Gru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 S. público No sabe el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 FF AA y del 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6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341280"/>
            <a:ext cx="81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375160"/>
            <a:ext cx="2952720" cy="13669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rasi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ão 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em decla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1773360"/>
            <a:ext cx="2520720" cy="48988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Méx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M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SS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decl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3600" y="1773360"/>
            <a:ext cx="2967120" cy="50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lombia: esta afiliado al régimen contributivo o subsidia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Contrib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s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ubsidi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¿Quién paga mensualmente por la afili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Le descuentan de la nómina o sal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Es beneficiario de algún fam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totalidad de su afil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sabe no in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0DA-8573-4A69-A85A-9CCBCA456D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jemplo Costa Rica: Encuesta Hogares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98024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BE8-4D20-4BA1-9931-6B27A5A0D5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Datos de cober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520" y="571320"/>
            <a:ext cx="832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Latinoamérica. % de ocupados con protección social contributiva basada en el empleo (2005)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135080"/>
            <a:ext cx="8748720" cy="549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6280" y="6363360"/>
            <a:ext cx="69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de hogares SIAL/OIT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557-6431-41D2-BC6A-B8B848AD7B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71720" y="663480"/>
            <a:ext cx="5732280" cy="582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2400" y="6395760"/>
            <a:ext cx="454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de hogares SIAL/OIT, 200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56600" y="315000"/>
            <a:ext cx="775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Latinoamérica (países seleccionados): % de ocupados cotizantes a seguridad social en salud (2005)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684-50A6-47C6-A2BB-983EDD10EE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981080"/>
          <a:ext cx="8763120" cy="37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7631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520-8D27-46DE-AC5D-BEA6B5514A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 ocup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209680"/>
          <a:ext cx="845820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45820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CCB-DF62-446B-95F6-7D43BF0A42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a la PEA ocupada asalari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2389320"/>
          <a:ext cx="807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89320"/>
                    <a:ext cx="807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E87-8B92-41DA-9FC1-C2E41AA0A5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779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574640"/>
            <a:ext cx="720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84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57520" y="3876840"/>
            <a:ext cx="36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592200"/>
          <a:ext cx="8640720" cy="6265800"/>
        </p:xfrm>
        <a:graphic>
          <a:graphicData uri="http://schemas.openxmlformats.org/drawingml/2006/table">
            <a:tbl>
              <a:tblPr/>
              <a:tblGrid>
                <a:gridCol w="2511360"/>
                <a:gridCol w="1298520"/>
                <a:gridCol w="1230480"/>
                <a:gridCol w="1184400"/>
                <a:gridCol w="1209600"/>
                <a:gridCol w="1206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EVIS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5/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ul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9/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 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ama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. Dominica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: Elaboración basada en Rofman (2005), Rofman y Luchetti (2005) y otras fuen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B09-BB87-4AF9-8BB9-F86E8DFBE5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3068640"/>
            <a:ext cx="67197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Buena aproximación de la extensión pero ciertamente insuficient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871-7E71-43F1-A9DA-6548444C40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Algunas definiciones de pob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n edad de traba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conómicamente Activa (PEA) o fuerza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conómicamente Inactiva (PEI): menores, adultos mayores, otros colectiv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Indicadores básicos: TBP, tasas refinadas de actividad, dependencia demográfica, ot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6D5-825A-4D46-9B60-034E7A7CB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Cobertura Previsional (pensiones) en Chile: Población 65 años y m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371600"/>
          <a:ext cx="72388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72388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590920" y="182880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5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9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048120"/>
            <a:ext cx="2057400" cy="303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tributivo disminuye (67.1 a 6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o contrib. aumenta (8.3 a 14.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96A-F776-4DA9-812A-4F5A4CE71E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86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tionamérica: cobertura de pensiones en los adultos may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400" y="610704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2090880"/>
          <a:ext cx="8839080" cy="37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0880"/>
                    <a:ext cx="8839080" cy="37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17C-3BD2-4473-B634-905D5A8D49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1828800"/>
          <a:ext cx="7772400" cy="40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D7D-3552-4E1E-92E1-1AF3589A30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04920" y="2209680"/>
          <a:ext cx="721368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209680"/>
                    <a:ext cx="721368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15E-6F6A-4590-A95F-B15E3BAD1A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olivia y Chile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583-4053-4E82-AB7D-5C14521BF3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Costa Rica y Ecuador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9B3-E36F-4306-BB18-12B73B62CA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Bolivi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707-E4EE-46A3-9B2B-7E6FE17351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Chile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B12-2611-430D-8AE6-BCAFA256B3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1398600"/>
            <a:ext cx="891540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0DB-CDE3-4009-B2A6-3D9F2DF231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60" y="1844640"/>
            <a:ext cx="84963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81F-8094-44E9-98A8-B3CDCB695A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Clasificaciones principales para el análisis de la cobertura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: público / 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 (producto/servicio princi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: inse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Pobreza / niveles de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Ámbito geográfico: urbano/rural, territorios administrativos, territorios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Formal / 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Poblaciones tradicionalmente marginadas: indígen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563-CBF9-4F07-8A12-2AE95B34F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1873080"/>
            <a:ext cx="8915400" cy="494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87A-1B0E-442F-AA78-4E97CE0080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5280" y="1623960"/>
          <a:ext cx="7921800" cy="48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3960"/>
                    <a:ext cx="79218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CA4-A175-4328-A634-3892C12E82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979640" y="1562040"/>
          <a:ext cx="46735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62040"/>
                    <a:ext cx="46735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086-0A14-4194-993D-63099A994E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35000"/>
            <a:ext cx="4581360" cy="425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4500720" y="1916280"/>
          <a:ext cx="4643280" cy="432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916280"/>
                    <a:ext cx="4643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960" y="6235560"/>
            <a:ext cx="66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Fuente: (PNUD. Durán, Fabio). Encuesta Nacional de Ingresos y Gastos Familiares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D2F-669A-4DA8-A764-565E00E6FD0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952640"/>
            <a:ext cx="727236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2B9-868F-4321-B246-6D2018AAB62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6560" y="2174760"/>
            <a:ext cx="8209080" cy="4062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8960" y="6261120"/>
            <a:ext cx="75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Fuente: OIT. Durán, Fabio.  Estudio financiero-actuarial y de la gestión de EsSalud,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CE5-38F0-4E3C-8656-AC12EFADE10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sta Rica: 1993-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222200"/>
            <a:ext cx="6048360" cy="55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D55-0CEC-4434-8FBA-4110B7A9AA3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22360" y="1440000"/>
            <a:ext cx="660564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2E6-176C-4014-A7A3-706CB0A394B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8000" y="2673360"/>
            <a:ext cx="9001080" cy="31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379D-2B8B-4649-A6FE-3217ADDED25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1844640"/>
            <a:ext cx="770580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ductiva: sector primario, secundario, terci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es de inserción productiva: categoría ocupacional y sector institucional (público / priv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relativo de la economía formal versus economía in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idad / disp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contribu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gra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jurídico (compulsión e inspe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ias en la gestión –percepción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previ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Algunos factores explicativos de la cobertura (resum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6EB-FDD5-428D-AA5B-49204F7BB0C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adhesión a los sistemas de seguridad 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directo (asalariado, no asalariado, con subsidio estatal o no contribu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indirecto (protección famili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fili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tizante (aportación activa vig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(con derecho consolidado a la pres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61B-466A-47AD-9D7B-6D3395C022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lgunos tópicos relacionados con cober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5AD-18B0-49DA-B204-AB5B6986212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878040"/>
            <a:ext cx="8137800" cy="5557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58120" y="645156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Durán, Fabio. </a:t>
            </a:r>
            <a:r>
              <a:rPr b="0" i="1" lang="es-PE" sz="1400" spc="-1" strike="noStrike">
                <a:solidFill>
                  <a:srgbClr val="000000"/>
                </a:solidFill>
                <a:latin typeface="Times New Roman"/>
              </a:rPr>
              <a:t>Encuestas de hogares, SIAL/OIT Panamá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97A-223E-4DEF-9030-4C4DC63A729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Diferentes densidades de cotización por sexo, generarán diferentes niveles de pensión, especialmente en cuentas individuales (inequidad de gén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34920" y="2163600"/>
            <a:ext cx="5111640" cy="4087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52720" y="2182680"/>
            <a:ext cx="5232600" cy="4046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5280" y="321300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BFB-761B-4BBD-A52F-387AF2135F8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El aumento de la longevidad es un reto para la cobertura en los sistemas de p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89080" y="2208240"/>
            <a:ext cx="6983280" cy="4821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66760" y="1508040"/>
            <a:ext cx="7508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Esperanza de vida a los 65 años y variación, según sex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aíses seleccionados,  1960-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2DF-248E-4E70-8B88-441F783E101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546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5640" y="6375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arreras salariales en ramas económicas seleccionadas. Costa Rica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6680" y="6538320"/>
            <a:ext cx="28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uente: CCSS, Dirección Actuarial, 2006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D45-8C07-42D1-8520-0EC1F2FC17D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056360" cy="4703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7164360" cy="4776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72360" y="620640"/>
            <a:ext cx="2447640" cy="5198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umulación de “derechos” previsionales a lo largo del ciclo laboral para hombres y 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9D1-2108-457D-8024-A8447F61764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5796000" cy="3864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5904000" cy="3937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6192720" cy="4127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765000"/>
            <a:ext cx="4103640" cy="2712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ños aportados al sistema previsional para hombres y mujeres a la edad legal de ret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D9A-2824-49C9-AB79-F4DD30F7156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82840" y="4467240"/>
            <a:ext cx="1152360" cy="244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4480" y="361800"/>
            <a:ext cx="9032760" cy="6595920"/>
            <a:chOff x="114480" y="361800"/>
            <a:chExt cx="9032760" cy="6595920"/>
          </a:xfrm>
        </p:grpSpPr>
        <p:sp>
          <p:nvSpPr>
            <p:cNvPr id="222" name=""/>
            <p:cNvSpPr/>
            <p:nvPr/>
          </p:nvSpPr>
          <p:spPr>
            <a:xfrm>
              <a:off x="114480" y="361800"/>
              <a:ext cx="9032760" cy="65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8280" y="57416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8280" y="51940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8280" y="46591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98280" y="41115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98280" y="35762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8280" y="30286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98280" y="24937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8280" y="19461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98280" y="141120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cap="sq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0600" y="4190760"/>
              <a:ext cx="44280" cy="20858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9520" y="4501800"/>
              <a:ext cx="44280" cy="177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8440" y="4736880"/>
              <a:ext cx="44280" cy="1539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88800" y="4993920"/>
              <a:ext cx="44280" cy="12826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7720" y="5205240"/>
              <a:ext cx="44280" cy="1071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66640" y="5249520"/>
              <a:ext cx="44280" cy="1027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57360" y="5406840"/>
              <a:ext cx="43920" cy="8697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46280" y="5451120"/>
              <a:ext cx="43920" cy="825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5200" y="5584680"/>
              <a:ext cx="43920" cy="691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5560" y="5573520"/>
              <a:ext cx="43920" cy="703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14480" y="5562360"/>
              <a:ext cx="4392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03400" y="5518080"/>
              <a:ext cx="43920" cy="758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3760" y="5562360"/>
              <a:ext cx="4428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2680" y="5640120"/>
              <a:ext cx="4428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71600" y="5640120"/>
              <a:ext cx="4572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1960" y="5663880"/>
              <a:ext cx="33120" cy="612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40080" y="5719680"/>
              <a:ext cx="4392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2864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19360" y="5741640"/>
              <a:ext cx="4392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08280" y="5763960"/>
              <a:ext cx="43920" cy="512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97200" y="5752800"/>
              <a:ext cx="43920" cy="523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87560" y="5741640"/>
              <a:ext cx="4428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6480" y="5808240"/>
              <a:ext cx="4392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65400" y="5775120"/>
              <a:ext cx="43920" cy="501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576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468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3360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43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12880" y="5808240"/>
              <a:ext cx="4428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180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5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81440" y="5886360"/>
              <a:ext cx="439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03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072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964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385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8920" y="5852880"/>
              <a:ext cx="4428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7840" y="5830560"/>
              <a:ext cx="44280" cy="4460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6760" y="5864040"/>
              <a:ext cx="4572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7480" y="5908320"/>
              <a:ext cx="439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040" y="5952960"/>
              <a:ext cx="44280" cy="323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74960" y="5875200"/>
              <a:ext cx="457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65680" y="5941800"/>
              <a:ext cx="439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460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435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33880" y="5897160"/>
              <a:ext cx="331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1164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005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90920" y="5897160"/>
              <a:ext cx="4428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7984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68760" y="5886360"/>
              <a:ext cx="4428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4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484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369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276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166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0552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8480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37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6408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53000" y="5941800"/>
              <a:ext cx="4428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19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326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2156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101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0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897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78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9040" y="5930640"/>
              <a:ext cx="4428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5796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46880" y="5897160"/>
              <a:ext cx="457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37240" y="5797440"/>
              <a:ext cx="44280" cy="4791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2616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15080" y="5941800"/>
              <a:ext cx="457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5800" y="5908320"/>
              <a:ext cx="3276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835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72480" y="5930640"/>
              <a:ext cx="4536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62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517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40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31040" y="5875200"/>
              <a:ext cx="4428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19960" y="5864040"/>
              <a:ext cx="4428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0888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9924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8816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77080" y="5551200"/>
              <a:ext cx="45720" cy="725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767800" y="5194080"/>
              <a:ext cx="43920" cy="1082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56720" y="2817720"/>
              <a:ext cx="43920" cy="3458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45640" y="1981080"/>
              <a:ext cx="45360" cy="4295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98280" y="1411200"/>
              <a:ext cx="1440" cy="48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41400" y="627660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41400" y="57416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1400" y="51940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41400" y="46591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41400" y="41115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41400" y="35762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41400" y="30286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41400" y="24937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41400" y="19461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41400" y="141120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98280" y="627660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998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0872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1761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1266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355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444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535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623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712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803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892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981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071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160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249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340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417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506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97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685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774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865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954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043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133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22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311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402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4909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579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670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759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848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938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027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6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206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295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384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4475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564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653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743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832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921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011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089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178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268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357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446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537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626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715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805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94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983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073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1624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251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342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431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5196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6103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699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88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785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9674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056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146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235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324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415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504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5927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6834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761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850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940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8029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118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208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8297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8386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477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566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86504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74080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82972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89186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9009000" y="6246720"/>
            <a:ext cx="180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82840" y="290520"/>
            <a:ext cx="6840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LO BUENO, LO MALO Y LO F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ARGENTINA: DISTRIBUCION DE FRECUENCIA DE APORTANTES AL SIJyP POR CANTIDAD DE APORTES MENSUALES, 1994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70200" y="824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82960" y="11127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0760" y="61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0760" y="5610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0760" y="50641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0760" y="4529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760" y="39816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760" y="34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0760" y="28987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0760" y="23637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760" y="1816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0760" y="1281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9892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12574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15256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1755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2025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22838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25520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28202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30888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3357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36252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3895200" y="63385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4161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4430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4698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49557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5223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5492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5760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60285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2971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65653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6833520" y="6349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71017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7370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76273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78955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81640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8432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87004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78640" y="6593040"/>
            <a:ext cx="26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Cantidad de meses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apor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263880" y="372708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0840" y="3817800"/>
            <a:ext cx="1081080" cy="25196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0840" y="2449440"/>
            <a:ext cx="1665360" cy="765360"/>
          </a:xfrm>
          <a:prstGeom prst="wedgeRectCallout">
            <a:avLst>
              <a:gd name="adj1" fmla="val -16444"/>
              <a:gd name="adj2" fmla="val 120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 malo..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.9% &lt; 11% densidad (1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0188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03560" y="2162160"/>
            <a:ext cx="1665360" cy="765360"/>
          </a:xfrm>
          <a:prstGeom prst="wedgeRectCallout">
            <a:avLst>
              <a:gd name="adj1" fmla="val -26550"/>
              <a:gd name="adj2" fmla="val 1292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feo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63.7% &lt;  66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6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0" y="1730520"/>
            <a:ext cx="1768320" cy="680760"/>
          </a:xfrm>
          <a:prstGeom prst="wedgeRectCallout">
            <a:avLst>
              <a:gd name="adj1" fmla="val 52152"/>
              <a:gd name="adj2" fmla="val 15279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78480" y="1730520"/>
            <a:ext cx="1728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buen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2.6% &gt; 89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8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0840" y="3530520"/>
            <a:ext cx="5781600" cy="271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91560" y="2954160"/>
            <a:ext cx="1162080" cy="3248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F76-3409-4315-9B1E-F4557C9877D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400" y="229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ruguay: efectos de la densidad de contribuciones: período base 1996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95280" y="1413000"/>
          <a:ext cx="8226360" cy="526716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4840"/>
                <a:gridCol w="1646280"/>
                <a:gridCol w="1644480"/>
              </a:tblGrid>
              <a:tr h="520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rción de los trabajadores registrados en Historia Laboral que lograría registrar “x  o más” años de servicio a los 60 y 65 años de edad. Estimación basada en el período 1996-200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 de trabaj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ños de serv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 A los 60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A los 65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Buchelli et al (2005) basado en información de la Unidad de Historia Laboral, ATYR-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7942320" y="3846600"/>
            <a:ext cx="79200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85080" y="57340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85080" y="29242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4797360"/>
            <a:ext cx="792000" cy="28908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B76-C889-4ED0-9BBC-955FFB0D5F4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cobertura requieren diferentes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ntributiva (compuls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No contributiva (prueba de med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Horizontal /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De acceso (salu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Legal / estadís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56B-2FAD-487E-916F-57D9D03F04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cobertura requieren diferentes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1884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contributiva (vinculación laboral / financiamiento)  ¿Quién pa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de acceso a prestaciones: salud,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no contribu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516640"/>
            <a:ext cx="7128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 en el Convenio 102 de OIT, Norma Mínima de Seguridad Social: sistemas universales versus sistemas bismarcki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B25-CDC3-495B-99A1-80407C63AA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bertura horizontal / ver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3333cc"/>
                </a:solidFill>
                <a:latin typeface="Times New Roman"/>
              </a:rPr>
              <a:t>Horizontal</a:t>
            </a: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:  población proteg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3333cc"/>
                </a:solidFill>
                <a:latin typeface="Times New Roman"/>
              </a:rPr>
              <a:t>Vertical</a:t>
            </a: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: nivel de las pres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Salud: contenido del conjunto de prestaciones en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ensiones: tasa de reemplazo o sustit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C9F-A187-4BFA-96D4-652F7FC560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Medición de la cobertura contributiva (con vinculación labo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3357360"/>
            <a:ext cx="4032000" cy="23857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n relaci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 asal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 no asal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2560" y="2852640"/>
            <a:ext cx="504720" cy="3384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843280"/>
            <a:ext cx="32036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Sector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Categoría ocup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Tamaño de establ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Pobreza / ingr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Ámbito geográfic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Formal / in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Poblaciones marg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S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81600" y="4156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852640"/>
            <a:ext cx="446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ndicadores centr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A4A-0DA3-4456-9EC2-E2B937F18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50:11Z</dcterms:created>
  <dc:creator>Fabio M. Bertranou</dc:creator>
  <dc:description/>
  <cp:keywords/>
  <dc:language>en-US</dc:language>
  <cp:lastModifiedBy>ILO</cp:lastModifiedBy>
  <cp:lastPrinted>2003-08-16T21:20:24Z</cp:lastPrinted>
  <dcterms:modified xsi:type="dcterms:W3CDTF">2009-09-24T16:14:30Z</dcterms:modified>
  <cp:revision>330</cp:revision>
  <dc:subject/>
  <dc:title>Cobertura proteccion social en AL</dc:title>
</cp:coreProperties>
</file>